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879F-4791-46AC-8E54-16C8ADEB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1E3-F801-4750-A574-F0394484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FA2-4BB8-4017-9F5E-BB66B117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03D8-875E-4E7A-A7D7-D09C4CAF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227-FA6D-45BD-B9D8-A2DA3D10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AD7-E866-416D-B8D8-DD06C42B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EE1-6ED6-4F73-8A29-CE72AEC6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0D7-7E71-4973-B755-1E584CFA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16B-5FC1-4193-8748-5EC3C7BC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657-DEF4-45F2-9542-CE29DFDA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0C9-7B90-442B-A503-FE8249BF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2B1-620D-4413-B94B-3BE4FEE1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0820-13EE-4AED-8EA6-FDEC7A120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3581280"/>
            <a:ext cx="1295280" cy="990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.g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38862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onver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586728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58672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Analys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1905120"/>
            <a:ext cx="1218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M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76320"/>
            <a:ext cx="1218960" cy="609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.pl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685800"/>
            <a:ext cx="1219320" cy="838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.pix &amp; .b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657600"/>
            <a:ext cx="1371600" cy="990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Other 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Pack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762120"/>
            <a:ext cx="1218960" cy="6858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4191120"/>
            <a:ext cx="152388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Other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orm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038480" y="457200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45720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093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343400"/>
            <a:ext cx="53316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320040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Image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72000" y="685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14479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362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638680" y="22860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2286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790960" y="2666880"/>
            <a:ext cx="53316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791320" y="40381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562720" y="403848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81480" y="1371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2763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276360" y="22860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81916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858000" y="2819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0360" y="1000080"/>
            <a:ext cx="5930280" cy="518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37" y="21338"/>
                </a:moveTo>
                <a:arcTo wR="10800" hR="10800" stAng="6158232" swAng="8802435"/>
                <a:lnTo>
                  <a:pt x="10800" y="10800"/>
                </a:lnTo>
                <a:close/>
              </a:path>
              <a:path fill="none" w="21600" h="21600">
                <a:moveTo>
                  <a:pt x="8437" y="21338"/>
                </a:moveTo>
                <a:arcTo wR="10800" hR="10800" stAng="6158232" swAng="8802435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47800" y="306360"/>
            <a:ext cx="6267240" cy="61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73" y="156"/>
                </a:moveTo>
                <a:arcTo wR="10800" hR="10800" stAng="-5984502" swAng="11115989"/>
                <a:lnTo>
                  <a:pt x="10800" y="10800"/>
                </a:lnTo>
                <a:close/>
              </a:path>
              <a:path fill="none" w="21600" h="21600">
                <a:moveTo>
                  <a:pt x="8973" y="156"/>
                </a:moveTo>
                <a:arcTo wR="10800" hR="10800" stAng="-5984502" swAng="11115989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1808600">
            <a:off x="2303640" y="846360"/>
            <a:ext cx="6095880" cy="525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74" y="21324"/>
                </a:moveTo>
                <a:arcTo wR="10800" hR="10800" stAng="6178953" swAng="8377783"/>
                <a:lnTo>
                  <a:pt x="10800" y="10800"/>
                </a:lnTo>
                <a:close/>
              </a:path>
              <a:path fill="none" w="21600" h="21600">
                <a:moveTo>
                  <a:pt x="8374" y="21324"/>
                </a:moveTo>
                <a:arcTo wR="10800" hR="10800" stAng="6178953" swAng="8377783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2057400"/>
            <a:ext cx="91440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2057400"/>
            <a:ext cx="106668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21337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2133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553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=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BRL-CAD-provided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172200" y="6629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095880" y="6705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172200" y="67057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209680"/>
            <a:ext cx="7596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209680"/>
            <a:ext cx="7596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3962520"/>
            <a:ext cx="7632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867280"/>
            <a:ext cx="7596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6971760" y="3085920"/>
            <a:ext cx="7632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5867280"/>
            <a:ext cx="7596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365800">
            <a:off x="4533840" y="1790640"/>
            <a:ext cx="7596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4533840" y="2629080"/>
            <a:ext cx="7632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5523840" y="5752800"/>
            <a:ext cx="7632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65530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=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Optional network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6553080"/>
            <a:ext cx="7596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14:25:35Z</dcterms:created>
  <dc:creator>eric</dc:creator>
  <dc:description/>
  <dc:language>en-US</dc:language>
  <cp:lastModifiedBy>eric</cp:lastModifiedBy>
  <cp:lastPrinted>2001-07-02T18:10:48Z</cp:lastPrinted>
  <dcterms:modified xsi:type="dcterms:W3CDTF">2001-07-09T18:37:44Z</dcterms:modified>
  <cp:revision>21</cp:revision>
  <dc:subject/>
  <dc:title>No Slide Title</dc:title>
</cp:coreProperties>
</file>